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B83-32AA-4AAC-A24E-86CF9415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6AA-D49D-4A4D-ADF5-7B49176D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9F789-D52E-44F6-82B7-31B1FF80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5E841-7C7D-4EC7-A7F8-8951361C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8F782-B4AA-4445-925C-25ECE218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FDD1D-EF36-44D1-857B-A006551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D2BF3-857B-4C62-B679-80C22EA3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427D3-B187-4D90-B626-AD5AAC2F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B25A8-9F41-47C7-BB9D-FB1BA4A8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DEE3D-6803-47E5-8F69-9148AEBD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1EF0D-E5E0-4098-B9AB-857FAA14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EE2465-0EBC-495B-A556-6F1A6699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607-78BB-4BFE-858E-0FEB2FDE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286F34-356A-4CB5-8F21-88BC6DB9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3B0E45-F280-470E-8FA1-0E7C9DC1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EEA866-D420-4F7B-8E78-032BCE2A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61517F-C727-44A5-906B-C7EBCE95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C6EB7E-E9A9-490A-A225-87D68246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0C9E19-7259-47C5-9CD8-29308308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7CCDE9-96FB-4412-B85F-58EC8F53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CDC660-1023-4BC1-8B87-5413E1AB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0E696-87BA-4587-BDA2-222F4E43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186FF-F271-484F-832C-F7884088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05C-A40C-48D4-B812-505C2942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E6E947-C0A5-4CF7-8415-F2BA230F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AC1BE-90D7-4C3E-81A8-619AAF96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969E0-E759-4AF5-965E-FDF5A597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A5963-03AC-4DD4-B7DF-851AC3C6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84F33-F117-439D-951D-039D2158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CBA9E-049E-4F2B-B1A7-2D357320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C83C9-36B0-4D0A-A9D2-3521E284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6C646-296D-4FAC-A977-ACB69424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F8B3-0FEB-4B58-8623-CA2504A6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79C45-DFDF-47CF-843A-1427EF5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2C7C-9F4D-4253-83BA-7015B2EF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580AC-FF94-49EB-A829-FC83AB80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AB6BA-0F8A-4569-A43F-4040053C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BE777-7FDC-4C36-9FB8-931E46B4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62EC5-3BE6-4566-A514-8056F2FA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75152-A71A-4FE3-A8B1-C2850D67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D5004-B695-4CEF-A501-AE4D5B3A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ACFFB-8271-44CB-8D05-3417017F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684B6-625D-45B0-961F-412FE08F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9127B-AD69-45D6-82FA-04B5E12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38E66-6DAD-4101-A5A6-BACF6B78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6FA0-CCF0-4A75-B877-DBF72EE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62D09-A6F7-44F6-80B9-27D9C4A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671F5-50AF-4631-8980-3B4A3FE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A362D-F6E4-4B53-9C1F-6835DFE7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22660-3F57-4184-85A6-2BD3B687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9ADCC-4574-440E-B7C2-781B778D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A6BB-8A33-4771-A203-454D4223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D6F3-BB8B-4066-BF72-2B2DC2D6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2CD-073F-4A1C-88C2-75D053B3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20D-C590-47F3-BFFD-8764F58E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2CB1-A963-4980-B0CD-321FD4CD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AB9-2B14-48FB-908C-590CC706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1E4E-E4D7-4005-A7AA-1A07AD0F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99C6-14A7-410B-A1AB-D5E7374B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5C53-EEE1-44BF-AD9E-DD473683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898A-47B7-4100-80EA-AC5F2273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593C-F4E5-4306-8AB3-FB1B5168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F5F9-2507-4E64-8457-199608A3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49B7-AB7C-4059-BFFE-708C2045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27513-A33E-488F-9DE5-E6D9B657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A18C-B5A1-476F-B74F-813BE0FB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6644-CBF2-4E78-B17D-97F7F568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D57-A0A2-41D6-8592-8A9C1F89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173EF-F1E5-4CF1-8720-4601B03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BF38-48AA-4691-98C6-A9727210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9580-9157-4D9B-B821-C2A3FA1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005A-B25C-4B12-BBC1-F7742A93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9C58B-47CE-4212-ACF5-7D2C1A6A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E42B0-BAE7-4333-88CB-A4453946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ECFD-E25D-4FBF-B510-CDB044CB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A66DC-C5D2-4A50-8CBE-2CCE7A88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600BD-CBA5-416D-B545-8143BDD7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2E0B-0511-4C12-AC51-9B4F481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157-27B9-4FD8-9FAC-2B5858D2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7E2D-7E7B-49E6-9108-2A35099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D02E0-BA5A-4DC9-B721-C07D82F8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D8CD-98CB-4BB6-8A47-C54400C8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DC56-6800-4805-B81F-B6E5304E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DDBA-8B73-4266-90A8-B193719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E8501-3629-40AE-9A9F-2B6FA43F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F022-9D6F-48E5-AE10-B27836ED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B0235-ECEB-459B-82E3-F7964CC2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26F9-531E-4661-B7BB-694D1DD7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84C91-8C6C-4E97-8811-BEBED076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F1C-FACE-4164-AB90-B772B089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47027-BEB5-4753-AC91-726DB826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2A842-4EA3-4871-96AD-BF71CF80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76F22-44CA-4AB7-A460-46CB6EC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A3C21-FC79-4AB3-8777-2D31AB48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8031E-D87F-4704-9D3B-7D4E481A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EBCCC-3501-4B16-98F3-BADD408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49499-290E-4715-853E-C4A41570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DEBD4-8871-4E0C-9037-8E2771F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7D1D4-45DE-4675-94B3-A1D755E8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088B9-A1ED-4FD5-B6E9-709BA652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480-584A-41B4-A436-7F7B4D3D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2EAEB-51C8-4B6A-8C58-522B0C32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0CF79-A7DE-4561-AAE3-47D829B4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DF6DE-854D-42A6-AAD7-B3B60057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9757A-7527-4860-BD5C-600BF04C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FE61E-A434-4F1D-B4B1-9DB69DC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5B89B-831C-4DD3-910B-D615B571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A887-DE94-4EA7-BFEB-776903E5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BE4B-3036-4AA2-942B-F106184B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15A47-9567-4BD3-B35C-4EED56EC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C1C12-8491-4F09-9D5C-FA515B19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0F1-E313-4BC0-9BC9-29FBA2E0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7D903-9E64-4A04-B13A-D1EEE44A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A056-7696-4DA5-ACFD-8D075C16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99F8D-4144-4E03-B09E-BA5D7BC4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F4BB5-FDA1-4F61-B247-72A5F288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A6BF2-7C2A-4E20-AB14-BE5ABC6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1CDB4-B794-4FF7-B2AB-8EFB8362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E36B8-A022-42A7-857E-77D0E2E7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F6E62-1216-4A6E-BA8A-1A7B4A79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E8B25-2671-44CC-B0FD-6CA36A69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CB409-9323-46E6-AF96-4DAE327C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AD6-929B-4E06-9532-EA669877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61821-661C-4E4D-BF09-4EFA852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5945E-13BF-45E2-A48B-4EDAB14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42552-A92C-4236-AC9E-24D84CD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87A38-37EA-42B5-B3A2-D8A59ECD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56C33-A437-4E86-9FBD-10155102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40F83-AABF-4F94-BF0E-7A6BA401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C84EA-FCA5-4FCB-9697-94F8F89E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4CE6A-B993-4AD0-8352-01EE3927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C7463-773C-4647-8CEA-3904ED62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C759D-02EE-43FE-89EC-7110ED8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8DF-DB9B-48D0-AD42-0DE2185A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1E16-C451-4238-A4D6-888B992B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14152-C6CC-4913-9381-A0900797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A3191-3B22-4972-BDC3-15081250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B3FE-2486-4BBE-AD27-325F7EE9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02367-D978-4932-BC0A-B14A276E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7626F-D08B-4424-A864-C2D97EA9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97665-F9CF-49E9-8CA6-58BB511E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8C6F4-E32A-4020-BCDB-2F1536F1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CA58B-F6CF-4C10-B623-8E4F19C1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1D821-6330-4626-BF2B-14919ADB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0BC1-7988-4A53-8B52-84A9749BB0B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B8CD-1B8A-4CE8-B06B-922EED18E6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8BD0-C52E-4D17-86B0-0289D396A82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8F24-FE7F-499F-A15E-51BB7E49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4845-ABAC-4027-93D3-A98E5883446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CF61-BB5B-404D-8C5C-1F0EF6FDE71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1229-5C08-4B8C-A0B2-726B99C01CA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E8E8-3734-45D8-A916-2F5D1738547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F87E-38B1-45DF-8C7D-734C54AA71F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98A3-7A2F-4124-8B96-532210DBE1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BAA3-0E12-474F-8CF1-CA19B8BFB3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EAD3-5617-4178-BAD9-3D8AF103B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DCA-6707-450F-BFEA-B49B381AE3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C30D-F623-4B25-9446-5B566F910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F39A-9D10-44B7-B8B1-3E5A2FCAFF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74B5-9551-4032-A8F4-F6B2167B3BC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0748-D9AE-4B77-AB8D-0B71E81E2E0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3882-633E-43BF-86EF-B3F57CD7B4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964D-4546-4978-83C6-39A2BF456BE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97FE-4271-465A-8A51-A6F18E3458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113-3AEC-4051-8034-72E45435EEC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1A64-E4EB-49A7-8332-B8A2D407C4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F4E5-F8CF-4D01-A4AB-A033158BE7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AFC6-4648-4967-A991-13F7C95C2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35F-E40D-40FF-B223-79AB55200B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2337D-1730-41BA-9585-CBB87B12E34D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AE34F-506F-4847-80BC-B9D064207B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B02B9F6-5141-4641-8748-68ED10CED6E5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8A1C-58B4-4710-A9E1-997465AF7059}" type="slidenum">
              <a:t>3</a:t>
            </a:fld>
          </a:p>
        </p:txBody>
      </p:sp>
    </p:spTree>
  </p:cSld>
  <p:transition>
    <p:comb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CFB40-E483-47E9-869F-3B7BD96A8E5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193BCA5-660F-4C0B-AF65-C8468D2559D3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D74F2-4116-40A7-B29F-63E1E1A3D5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E8F9277-C787-42BF-9C8C-A52BA6C73D2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504E3-00C5-4D7F-991F-6D3891F4E4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12DEE69-0E20-4DFC-B86E-15DC49A33983}" type="datetime1">
              <a:rPr lang="en-US"/>
              <a:t>07/30/26</a:t>
            </a:fld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