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B6F82-7440-43CE-97F0-5899F1FD4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7EA13-EDB6-4408-99AA-D4F816103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26946-1ECD-48B5-947B-87F9317B0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DC019-E064-4856-9A33-361012642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370BA-113D-4601-B821-1A4202B78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5A6AC-D62C-49F6-8024-6438A6E3D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EE646-B1E7-4C56-BE61-523FD652B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5F08A-94E6-4B42-8B17-6155DB0A4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9DE9D-FABD-4806-A359-059E4D6EE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EE41B-067B-485C-B9C3-076FB8B53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BAB30-E160-492B-AFCE-2CCFE4EC1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BD5EA-352E-4BD6-8205-1E4D4799F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B936D-6657-424B-9A9A-9A442FEA41A5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44964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10656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34920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Vertic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Horizont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uble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965680 w 7197480"/>
              <a:gd name="textAreaRight" fmla="*/ 4231800 w 7197480"/>
              <a:gd name="textAreaTop" fmla="*/ 1482840 h 3598560"/>
              <a:gd name="textAreaBottom" fmla="*/ 21157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5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8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16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2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32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148920 h 35985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21:57Z</dcterms:created>
  <dc:creator>tb121644</dc:creator>
  <dc:description/>
  <dc:language>en-US</dc:language>
  <cp:lastModifiedBy>tb121644</cp:lastModifiedBy>
  <dcterms:modified xsi:type="dcterms:W3CDTF">2005-05-25T11:22:14Z</dcterms:modified>
  <cp:revision>1</cp:revision>
  <dc:subject/>
  <dc:title>Slide 1</dc:title>
</cp:coreProperties>
</file>