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5791-F986-42C6-B9D9-91E4B1E1D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8C90-AB71-4D1C-A434-CDA7A8FDC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7A01-6DC7-4405-80FF-5E2427AA4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00EE-706B-4C3E-8632-05FBE7917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EF1A-FB1B-4678-8781-A7B97AD05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9EDA-8BBC-425A-94FF-0A901C290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CFEF-5C71-4081-9721-E2A70444D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BCD4-6A3C-4BA8-A96F-E69585ACC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166D-C93C-42FD-904D-BD6F2C7FA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629C-BCEC-4309-813E-3F3E9C451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3EEF-AF3C-41C6-8776-63C514533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A6A2-13C1-4706-B328-D97A59149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10107-9565-4232-8DBF-80D84605D1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gDings bullet chars tes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tangular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uare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border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te 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der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outline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filled diam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 of Dav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5 point s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Bilbo Baggins</cp:lastModifiedBy>
  <dcterms:modified xsi:type="dcterms:W3CDTF">2003-02-24T18:57:51Z</dcterms:modified>
  <cp:revision>5</cp:revision>
  <dc:subject/>
  <dc:title>WingDings bullet chars test:</dc:title>
</cp:coreProperties>
</file>