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C32474-1B95-4F04-BCE8-B50111421A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B62F45-8C6A-4D3B-BA2E-C5A42EF565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B9B327-B0A0-4527-AF0D-078C277B90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E2CF09-CD1C-458A-840C-622D49FCD7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5F4E5AF-9F04-428D-891A-6A7BD788403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08A205-0CEC-4D3B-A280-4BB3E64593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070DC5-2827-4D30-A9DC-2931A2351A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7B5E5E-7948-427F-8D75-074B6DFB5E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57891E-D732-42B5-A04E-13357F5B05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E1C9B3-8D5D-4BF2-972C-CB7724CF04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610BCD-BF80-4150-9506-C2E954F6B5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172A88-1043-4020-B5ED-BCDD5D2FC1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3D61D1-8A3F-455B-83F8-FFB4F16220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3EBB60-9B1D-4196-B020-98CCBEE1A4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26A0CF-93DD-4C93-8FA0-8C5E4838EB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2FD01E9-42FA-49EF-B1C4-5CD7188A547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A7459B8-A315-41A6-92D4-B14450A006F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6B5A6F-0915-415A-94C5-CD6B66BE69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2A9388-EBE8-4AB3-83EB-4B999D7A24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B3999A-C393-4C5F-ADD2-453EEEC8EC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68139C-CA9F-4B6A-AE3F-23870A230D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78FD23-7E7C-45F5-B774-94709D02C9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648456-CC9A-4BF4-85CB-FD5E58215B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28DE6C-AB81-4391-9DA9-9FDF704CDF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513725-606E-465C-B82E-70789DF5481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B0ED4D-35E5-4F49-9751-98A511C91BF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FC6E789-0AC3-46E9-AE4D-23F66383DC2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9F67A73-B3A2-41C7-AD06-7FD0E0FC002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AFDCBF-77D5-4799-9D74-24FBB8058CFA}"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1DC0F8-23EC-4B17-BF2D-95294A5ED432}"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FFB8F9-CD84-40C0-848C-9625C704BDA1}"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AC20D6-F26A-4534-A41D-EC85D46AAD79}"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081DA6-44C9-452B-A0AC-9DA93122516C}"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D518C2-8031-4DF0-867E-9608EF9AD724}"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EA30AA-C172-4D44-B3F5-A8FF6DE90A94}"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E19BA6-E78F-47CC-B965-6B530E4FE527}"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FF3AF9-CACC-4FD7-B012-5A698F97162F}"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5395BF-1688-4BD6-BA5F-A3BD10E6B08E}"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0308BB-F85E-4DD9-8D7E-A1E8D30DF7E6}"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B3507A-AED7-4145-941D-5B90A5861B40}"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4D94B0-DA8D-4D24-9B12-EC7D43536CD4}"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B2FDB0-EEBB-489B-8CBE-670207FFD007}"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838A6C-6085-41BD-AA7E-F6E1AEA4A01B}"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3AF846-C5BA-4C9B-9BD6-A86CDD08D53B}"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7DF647-ED99-4C0A-916B-4E274E7D017F}"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AB192D-998A-4DB5-B918-E51F134A9075}"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2D59C6-BD19-4095-B555-37B8EA9ACEF2}"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E9A8AF-2B22-4EFA-A44A-4BAC8436924A}"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8DA3E9-30FA-41D5-989C-111A71D1EB82}"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F7D2BA-F797-4F0A-946A-D4E134AB79E6}"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84DB25-77E9-4248-83DA-8945A0CCF1DA}"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939E8E-4790-48B6-A88C-89BD9AF5FB21}"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6CB4AD-1895-4A3C-A75D-CEA0F573C71D}"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E95C635-B8D1-4828-912D-C1BC9584C575}"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02B7A1-ADF6-4259-86A9-02B5BA3EE0E0}"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A609A8-1DC5-4850-8BE7-29C724DA8960}"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FAB756-3F5C-466D-B447-8F190E5CDDAC}"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5607C4-81E2-4B2E-9432-84C8E0330E7F}"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7B6BA7-1583-4743-8025-B2DDE59A2162}"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DC2360-4F2F-480E-B8B0-ECCF1DCFECF3}"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F40A4B-F8C8-4FE1-AC80-CD3922A5D234}"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A28EEF-3D0F-4163-A0FA-BE0FDFB252B5}"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89493C-0430-4A95-BFC9-CBE25BF34DC1}"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664174-2A4F-4ACC-B106-CF2BDCC82963}"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FEF38C-A5BF-47F9-9134-21BA92F5BDC3}"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C825CF-FAC6-4F39-BD4B-C399E23AEEC6}"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6A8E40-56AD-4370-A8ED-5267848C02B2}"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D810DE-6239-40D8-8178-2BEC7FF9987D}"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91020C-1E46-4F39-A81E-44BCD53E0783}"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1FEAD0-0888-4382-B4B6-7D5FB3ACC6D5}"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9047B2-D692-4ADE-8E6F-34C405F1A090}"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C5CEAA-7D14-469D-9073-7E9F9B8F6C3A}"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15D684-D87A-464E-AD37-B0AEBA45209A}"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E468DD-1E62-4520-A8C8-23F4C848E24A}"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B6FFAEE-A42F-4A2D-BA93-34685B48555F}"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FDD1B5-B755-44D0-87A1-83C3F8D9471A}"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36A3EE-99B3-4783-B2D0-29B1282A66B7}"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9A713EA-7DFE-40C4-9D09-DF5476EF9B52}"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670B8C-15A8-47BD-A8E3-10325653A9BC}"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767A91-C25D-4209-926C-68086FCC3B86}"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08B0EF-CF87-4F37-B1A9-7DE018638FA0}"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9DB798-471E-4F9B-BB42-92C797E502CB}"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94B7A0-0A7E-4357-8F1F-2FAE138F9AB3}"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3608EB-50DF-41BE-A2CB-31B21B4187B6}"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8DCA28-ECB9-4B61-8201-7887432D9215}"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BE9935F-8E9F-433E-BFCF-74B0EFDA1BF2}"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65D1B0-14FC-40B1-B1A3-72F39D009C83}"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FEC147-0B54-45D8-893A-5D368E94271B}"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17550E-8BA7-41E7-A49E-9685B247635D}"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3429F0-069E-4337-AE04-BAB00C3D30C2}"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E0CEA9-02B0-4BB4-BF63-FA6B19B98043}"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B82A6E8-9C09-4830-A10D-221725FFB2AC}"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345CCF-EB9F-4A91-BC10-9B5755C9220A}"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153900-129A-4458-A7B0-0E88E41B2034}"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DA3EE7-7BD6-4299-BBF2-0184A9BB4626}"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D03CBA-416E-4F4B-856C-BEA01C4F1FB0}"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C65A966-305E-4D36-A9C4-2DED703B6756}"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1A0641-6F2A-4F2D-950A-4206A880DA26}"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B1E22F-E496-4E81-A150-B3C46F6E67F5}"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E72F1B-7088-46E7-9063-77548B6A5C47}"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4E8972-ACAC-43C1-B586-2F55198AFC67}"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3ED589-C41B-45F1-B104-75A3CB59ECE4}"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6E43DE-6B65-47CA-A078-EA6C4D8B928A}"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790DE8C-0231-4902-BD34-0F656609C5A9}"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FD2CFB-6654-4F2A-BE0B-72A8D30A78C5}"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71D634-E958-4A9A-95D0-A3A36A0B7857}"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3DF74C-26CD-459F-8939-817047A81C34}"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075F17A-4C7B-4B95-A031-5AC148E04027}"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267219-68B3-4552-8B85-7AF8B9126196}"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F221E90-118B-4F2D-8F92-6A5F27A88973}"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234B7D-1B8A-448C-8A4E-1DF38DA5D128}"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226B19-8785-484E-857F-F99DBCECF489}"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F866E7-46F8-4C6A-A354-9C86B998D7E1}"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BAEA3F-ECFC-4AEE-B9D3-00BF6942908E}"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63CC01-4F36-4D54-A014-B82CE2717B67}"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F426B9-97FB-4072-B3A5-4FDB29028633}"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12F560-37E7-4FDF-A947-832D2A3DF83E}"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25E882-65FD-4AB2-A093-BD25DE8383E8}"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CA02E1-DF3A-4241-B12F-2CDB3E53A30A}"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A4854B-80EE-425C-B94B-47B2F9D82CDA}"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9021B2-56EF-4EC7-AA94-0B92453D3797}"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2A07CC-7ED4-433E-B88E-075878B8E94A}"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3E2ABE-CC23-41AB-BE36-7D3A40BC9119}"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BEA7C0-2509-4A17-85A4-C0DA35E9D35D}"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AD48FD-4F26-45E9-B248-554D2A6FD071}"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5446531-BF10-4AE7-AD27-F65F35F4878F}"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4FF97C-E1B2-42A5-B71E-50C903030CFE}"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FEF2A2-4AD0-4B81-82EE-68008E5D2569}"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E991CC-713E-4A45-BA65-876B506716BC}"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404011-2754-4028-BA46-7BE5001C1A40}"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E12ED3-F912-424D-A963-9DEA7FCA09BB}"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9FCA7C-4C4E-442E-A341-A50CE2B4890E}"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1671CF-6730-4984-89D1-DA628442455E}"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A5BCFD-12BB-458D-A2BF-D0CBEA9B54FF}"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420BEA-91C8-4845-8670-427DAD25CF52}"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C09F77-1251-46C8-81A6-670CD39C0E38}"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53E048-D480-45A1-9D3E-0E872E435451}"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7D3F73-2F4C-467B-AD77-C9BB018692A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85AAFB-47DF-494B-B367-0B1832450EB3}"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2B6AC7-1D5E-49F0-994E-D39723647AE4}"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EFBE55-3863-45FE-A68C-B3E406C8287A}"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EC0E6F-B895-47D0-8B73-AC179C618E3A}"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4AE312-0634-466C-B341-8F4DEBFEA13A}"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0BD45F-DDFA-40F9-9041-F4D9E0059923}"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CC8B1B-E3A0-4D3A-89C4-FC807E2E19C7}"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C74D56-3631-4176-8196-FAA9FD452066}"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A17E1E-90AB-401A-88B3-DCFECD0D583F}"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1B1665-2E28-4B6C-A69D-30AFC1DC95E1}"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F16DBF-BF6C-4567-B657-42BF144FA6A4}"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67AFFE-ED90-433A-9234-6677304B2026}"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773A48-E2E6-4902-8BDC-F27CE3FDD831}"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8D0ACB-FD48-4A1E-8199-CE1068CEDCA9}"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E2D548-9A5B-44B3-A69F-5B0A88973212}"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90C97CF-74A7-4B1B-A8E2-C1B0FFAF3431}"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EEA635-6ECA-4F70-AC52-80F2C7DF88E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603D48-64E2-446D-821B-0CF178EF74F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CF1B36-8D3F-4840-A902-5B171028F5B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E9D124-B414-4103-BB60-F7293A5E16E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506E7B-9F94-4185-BF0F-F708B053F34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184917-DC7C-4BDF-999F-8173113572A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C85133F-A6BD-48D3-AE3A-02D2FD47E9E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110E37-1EA5-4045-8580-94E8E108031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0CA82D-FE4B-4B42-A9C1-A6920A461F6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4CE778-B26A-4078-8C16-035883A9301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0313F2-C17B-4065-837B-5991BE2888B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5D1DF8-13D0-4D43-993B-B0585091EF3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C3D3CD-D288-40CA-9615-7ED3A968C7A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A3DEBB-C8B4-436A-929C-8E29B58A741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7C9740-5B51-4C6B-B4C0-985362E65B6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A653A7-8AA4-45DE-8C0C-3B2239B3F80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2E157E-791B-44C4-84CA-F940F7F7137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5FD413-B6E6-4747-A6E7-0E0209CA188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4372E0-7073-472A-8B1D-96BBB826217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C10B5B-FB9D-496B-A131-A57C2E1D374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A86289-2208-4736-A511-960304CCFB6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786371-5628-4EEF-99CA-82F1722364D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33FF67-D10A-46C9-B634-3D433B2150E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6AAED0-10D7-442A-8C49-B949C171E79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273365-9C7E-4B58-9998-D71E85930D6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181CE5-8AA3-4C0E-801B-9DC9C18E3B0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ECCECD-7137-468E-A8D0-ACB9BBE19C1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3B9D14-47EB-4C9C-8B28-6533E4877FB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9231E5-93CF-4B7D-98A5-84941436FA0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187936-A423-44AA-B237-C968AAE4D7D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F23D5D-A06B-4207-A2F2-181D797FB9E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A02943-62F1-4FC8-9D21-9DA8272F394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80FF5A-96BF-4A44-87C5-000E3BF2F2A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63A9B8-3FC7-4316-AD3B-E43A5177A81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90E283-DAAC-4AEC-9DAD-46069EB4C74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5E44E3-5978-4178-AB97-15586A227F7A}"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A510F9-ED6D-4865-BD73-EBEB0A525E5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5C1FCE-657F-4846-B6F6-CDC9AAC2F752}"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7B627C-24B9-4C55-BCE2-2DB0016E246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C317F9-BADF-449A-AB1F-A10223F43AF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A888C4-0098-41F6-BD4A-9EA79935F22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2C5E38-5C80-4FF3-9661-71DF2BC7E923}"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1EB384-9EDA-4885-AA1E-C327AE5DC161}"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A295D9-225B-404B-B1F5-C1FA55920645}"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79ECB0-6CE9-4E83-A801-75771F611298}"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A9DBA2-129A-4CFA-85FB-3895109AA5E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0CDC32-DC32-49E0-A606-CEF08D16D9D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0785CB4-1D3B-40F9-93A5-B2157F5FD64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A8AA3D-B02B-4B8C-9579-9066D7C35AD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4B93B9-F4FB-4144-AE5A-59FCD3CB087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963B72-57D0-448E-890C-B54975C47059}"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C29A6F-D2B5-4A44-A096-45A5132FFFE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0FF61F-8874-45D0-9400-08618A672E4E}"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5F99FC-4BBE-4EC6-9AE5-50B920F2681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6AB20E-9522-44B8-A938-A7773580F35A}"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989C92-7E94-485B-B84E-6D2B0F84923B}"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67061EB-1602-4993-A6DE-0AC7628F6B2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27E112-2686-447C-AD8B-37024B9013A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84C38C-44CE-4883-A042-18616948EBA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541E5C-6DE7-42D4-9B04-EACF2FCF33A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672605-9B37-4409-9D46-7ABF13FE0A9C}"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F29024-A37A-4DD0-82F0-2B7073529C81}"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4E7824-6C5F-479E-B7F4-C6D13D4CE81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117F5D-D92E-4F8A-967E-B12A1D4B3821}"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EEC068-F553-45AF-8F73-8C15EBD89B7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F9BF8C-9823-4B07-BF5A-68E9AEBD3A5B}"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1D84FA-CB9A-4FAB-A5EE-9366E5E2A949}"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BDE6B0-0575-49EC-B1A2-FB7B4CEF3AE5}"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DC789F-4D6C-4E16-B611-E00C26D26BB3}"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2AF2CB-2DB8-4D5D-91E8-088FB2BC9882}"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F05049-489D-4255-8809-5B3EF6F7E74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9CCC39E-1B4F-422D-B637-50D9D5876800}"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46969F-C617-4F99-972F-2ACC4F28FB57}"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BDF7BE-6360-4859-AF81-229659AF0828}"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175C75-1AA4-4954-84A5-8CD850C8CD7C}"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B414E3-5E1F-4964-8034-C1A9FE0BA97F}"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4AFF8F-EAC5-42EB-9346-6E1CC91EDDC2}"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AED125-2FF5-4E11-AC24-789E4C6EAD36}"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0E297F-B180-4AE7-9B4C-21C20E269F97}"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24008A-9B6E-4DBC-B307-341884CB5100}"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047A34-D95D-4D17-9FF6-A3BB152AFA7D}"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AC5891-174D-4336-9BC2-A3E3964CC3E7}"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B716FB-EA03-4FB5-9C3F-64B74725173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BBB841-61DB-4FCB-A71F-BDBF2FEECDDC}"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5CA309-5CCE-4FB9-B0C0-17BC0E83C708}"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